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F21-5508-49E9-B0FB-82851D27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346-4432-450E-BDF9-1F7B7DAE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51A-DA19-4CE6-87C0-2C9BEE9A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131-369D-4AC4-8D09-7F4E8B31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D00D-A408-4CD7-A326-AEC2D899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ADA0-30D9-4A3B-9CD8-3B72F976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9303-C5A5-4002-8B20-E5BCD653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1461-6DF1-44E6-BC79-401D37EC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34BD-010D-4251-BB50-804A1AEE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7164-2DA0-4490-9D0A-FCA09CE4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523A-9D9D-4BC0-AB30-8FB704F8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11D-0913-4B5F-90C3-C1B8215C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0754-8EB7-4BCF-8926-DE2D434A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2DB0-819D-4CCE-935A-6D82DE48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5B5C-0D4D-49FB-A778-7C023358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6F48-0EC1-4268-954B-A3907336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738F-8E27-4053-937A-7A05B889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B47-B25B-46AD-A6B2-5D7FB3D3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23E-6D9C-4362-9CF1-E92C3413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896-7671-410C-85D3-71C67405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325-CC5F-4FE2-8278-917FC1EC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F41-4B0A-4109-95BE-96F88E49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526-49D8-4A50-93D4-A4F1D9BF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3CB-E982-4441-8726-24E3A7A1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E36B-7421-458F-84CE-DD0677F803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6960-AA90-4F32-A0A4-309142B2E2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учно-методическое обеспечение концептуальной модел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Школа методического мастерств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мова Лариса Владимировна, заведующая информационно-методическим отдел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ородского методического центра по Советскому район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Единая методическая тема района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 2010 – 2015 г.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инципы выбора единой методической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темы, значимость для системы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емственность (с предыдущей темой ОУ, с нынешней темой рай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спективность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агност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стем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сурсообеспеч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выбрать единую методическую тему ОУ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аботы ОУ по предыдущей теме, выявление проблем образования в 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условий (статус ОУ, цели, задачи ОУ, характеристика контингента учащихся, перспективное планирование т.д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есурсов (кадровые, материально-технические, информационные и другие ресур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1828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ормы организации методической работы над единой те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кетирование учителей для деятельного осмысления целей предстоящей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здание творческих и проблемных груп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методических недель по единой научно-методической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бота временных инициативных групп по подготовке к педагогическим и методическим советам, семинар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ытно-эксперимента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, анкетир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 уч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ПК учителей,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ие отчеты уч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Алгоритм деятельности педагогического коллектива по реализации методической тем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психолого-педагогической литературы по методической теме образовательного учр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я педагогического опыта коллектива по подготовке к реализации методической темы (диагностика, выявление проблемных з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ирование модели реализации методической темы (определение подтем каждого этапа, задач, программы реализации тем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ка содержания образовательной среды, создание банка валидных диагно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робация и корректировка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дрение в массовую практ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передового педагогического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ормативно-правовое обеспечение деятельности методической службы ОУ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кон РФ «Об образовани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иповое положение об общеобразовательном учреж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каз Министерства образования РФ №90-М от 16.08.94 (определяет содержательную сферу методической работы в различных областях 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став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грамма развития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тельная программа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довой план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окальные а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объедин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творческой группе уч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научно-практической конференции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16600" y="3808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Маркет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образовательных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7200" y="2895480"/>
            <a:ext cx="225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правленческ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ордина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43000"/>
            <a:ext cx="4876920" cy="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143000"/>
            <a:ext cx="0" cy="11430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9625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29718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49568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840" y="12193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нали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87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ормиру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6680" y="213372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нформ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1360" y="205740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ттест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8800" y="33526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Проектирово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констр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8680" y="4800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1120" y="54100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Нау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040" y="5105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Внедрен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920" y="3276720"/>
            <a:ext cx="18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ункциональн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ункции методической служб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беспечение педагогов профессиональной информаци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налит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диагностика и анализ учебно-воспитательного процесс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ующа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омощь, участие в разработке инновационных программ, методик, учебно-методических комплек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ттест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выявление, поддержка и распространение управленческого и педагогического опы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ектировочно-конструктив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проектирование индивидуальной траектории профессионального развития педагог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б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методическое сопровождение предметных обл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научно-исследовательской работы ОУ, поддержка экспериментальной работы педагог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едрен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бор, внедрение и тиражирование педагогических материалов; организация и проведение семинаров, конференций, практикум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я социально-педагогической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индивидуального консультирования и профессиональной поддержки педагогов; повышения квалификации педагогических кадров; помощь в проведении профессиональных конкур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владения педагогическими знани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педагогами современных педагогических технологий, методик, приемов и способов успешного обучения и воспит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итие у учителей интереса, потребности к формированию и совершенствованию умения заниматься творческой педагогической деятель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педагогического мастерства, в том числе педагогической 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ние условий и выработка у педагогов потребности в самообразова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ирование и развитие устойчивых профессиональных взглядов и цен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на практике современных способов диагностирования ученической успешности, методик воспитания, саморазвития, самосовершенствования, самореализ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держка и сопровождение педагогов, разрабатывающих и реализующих авторские программы, курсы, методики, пособ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онное обеспечение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ение в практику работы с учащимися и педагогами научной организации труда (НО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и поддержка созидательной, конструктивной педагогическо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 и поддержка экспериментальной и инновационной деятельност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разнообразных стимулов, способов и организационных решений для повышения квалификаци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ловий для зарождения, развития, объективной оценки и широкого использования ценностного педагогическ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, стимулирование, содействие общественно-педагогической деятельности педаг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2600" y="38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2200" y="266688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ло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пеш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ущест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тод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22096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1911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27432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64832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914400"/>
            <a:ext cx="181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иагностиче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4240" y="838080"/>
            <a:ext cx="15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рганизаци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спех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0280" y="2157480"/>
            <a:ext cx="193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че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8120" y="2081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Встреч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Стимулирование в процесс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работы и по результатам 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724280"/>
            <a:ext cx="189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спольз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еиму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икрогруппов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7680" y="5257800"/>
            <a:ext cx="184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сурс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еспеч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разователь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це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7040" y="512928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1440" y="3300480"/>
            <a:ext cx="160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инци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о-методическое обеспечение мо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агностический, _____/___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447920"/>
            <a:ext cx="274320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лиз затруднений учителе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тояния УВ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тивореч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ждающихся в ликвид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1523880"/>
            <a:ext cx="28195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блем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основание ее актуа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грамма реализации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905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581280"/>
            <a:ext cx="2819520" cy="2590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учение коллективом те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ы на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совет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етод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минар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их оператив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индивидуальной и групп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е с учи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работе по само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оретическое исследование проблемы, ____/____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962520"/>
            <a:ext cx="2743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копление теорет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 по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ктическое исследование проблемы, _____/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447920"/>
            <a:ext cx="320040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целью практ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авленности этой раб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я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атические пед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минары-практику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ые уроки, внекласс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роприятия,взаимопосе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523880"/>
            <a:ext cx="281952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енствование учеб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ного процесс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ирование ППО в рам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ы по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95680"/>
            <a:ext cx="327672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ферен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тупления с самообобщ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а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орческие отч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ические выста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63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едение итогов работы по проблеме, пропаганда ППО, ____/_____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495680"/>
            <a:ext cx="274320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стематизация накоплен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ние педагог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льманаха по пробле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0-10-26T20:58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